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8C4-0DCA-4173-9D18-7CC39C78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9CF-10AC-457A-9A84-3F63CE6C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3A4-7EAF-4BC2-BE2F-97F9696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383-F752-4B38-9BC4-8FA6D69A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9F85-C8AB-4459-80B2-137BF78D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03F9-0F16-4BFD-8FE7-E7672287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6B1-A2E5-48A4-A48B-D21D9E6A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3DC-8B8A-4A80-842A-BAB0AE0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61D8-2AB3-4A68-A12D-52C27867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8095-D7B7-4224-959C-1C4897E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EA7-8411-4CB4-8FF2-EB095BF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9C1-8D86-43DA-8BB2-CAD2F27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F4FD-96CD-4674-B271-42F60928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D38-B24C-4C68-B42F-D97D084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B81-8BAD-4540-9CA6-BBC066A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FD2-58AF-4AA5-B62F-3F89C62E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357-165A-4BEF-BC12-AB3438A8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6EB-4F19-4AFA-BF95-28C0D4C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3C0-5145-4828-8485-C7D1F8FC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BB0-E264-4D9B-94C9-C8985D4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869-2ABA-4908-B67D-4F288F1A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DF8-CA91-4C98-A6F8-4952A8F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76F-2B16-4E36-A5F8-8184CB2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516-9B83-4BED-92CD-8029150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7A3-CEB5-49F7-9D16-83092EFB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D8D-D128-4B42-B9E6-D4650A64A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culations between mass/particles, particles/volume, and mass/volume are possible by first calculating the number of mo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339264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384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@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304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ly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olume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a specific set of conditions, namely STP (standard temperature and pressure,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 and 1 a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= 22.4 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Between Moles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→ Moles (divide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ow many moles are there in 3.8L of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ST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s → Volume   (multiply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at volume, in liters, does 0.5 moles of 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py at S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provided with the density of a gas at STP, then using the volume of 22.4L will allow you to calculate the molar mass of the g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nsity of a gas containing carbon and oxygen at STP is 1.25g/L.  What is the molar mass of this gas?  What is its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udsd</cp:lastModifiedBy>
  <dcterms:modified xsi:type="dcterms:W3CDTF">2012-02-06T16:17:19Z</dcterms:modified>
  <cp:revision>48</cp:revision>
  <dc:subject/>
  <dc:title>Moles and Stoichiometry</dc:title>
</cp:coreProperties>
</file>